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D69E-7427-461A-8F76-F474BBC1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9441-F1ED-460A-AFF8-ABA139F5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09C6-11AA-4743-BF54-E8F25BCB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AF52-4053-49C8-A13C-F05254AA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32AC-5451-4F21-9019-4CB93A39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B6CF-3F60-4FF3-9CCB-0B5750A0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1E18-E5D1-41B1-90D5-A6A2B743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0F2F-C1E7-4A46-89C2-7FB2B822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AF08-149A-47C2-B2F9-2EAF10CB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D19F-486D-404D-AC73-49BD7A1A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B298-101E-4148-90A3-B1CBBB10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DA74-7315-4E10-9A5C-8BE0BF60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2156-6DE9-4BBB-BC9D-45D072D8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41D3-3087-4798-8BB7-A8227C6C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FC30-A9BD-46C7-87B8-FDB173EB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8412-1E11-41B3-A27C-2ECA5EA0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4939-E96A-4B3E-887A-450284F1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B536-A1F2-4508-9103-73ED10B9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1D3C-80C7-40D4-BD32-431344E2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1EB2-783C-458D-B9F0-2B00FB53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FE01-C235-4590-8CD6-1E322D03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AF3A-9974-4F71-B92F-E4C4789E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A61F-0F1B-4E3F-A35B-AB8C5637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D39B-4126-4642-8C2C-30DC892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88EE-26B5-4E32-8851-DF852328C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2AC7-264A-4C7F-B39B-BE08A08AA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Cipher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iphertext (or the plaintext segment which was just enciphered) as the key for the nex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C85D-4921-450E-AFF3-19009318BD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72520" y="321624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autokey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7756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072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09640" y="3292560"/>
            <a:ext cx="152640" cy="380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072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24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66840" y="3368160"/>
            <a:ext cx="228600" cy="304920"/>
          </a:xfrm>
          <a:prstGeom prst="line">
            <a:avLst/>
          </a:prstGeom>
          <a:ln w="936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7442-797B-470A-83CD-69C66FA2F6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3T04:10:17Z</dcterms:modified>
  <cp:revision>59</cp:revision>
  <dc:subject/>
  <dc:title>CAP Cryptographic Analysis Program</dc:title>
</cp:coreProperties>
</file>